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A1C9-D830-4C2F-84BD-EF6B5769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35C-6388-499C-B14A-5C14B341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77E-8690-4B17-A36D-57BFB877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69B-BF40-48C3-952D-BC6521FA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C960-34B6-49BD-8E84-4E612F0D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F9AC-599A-4DE2-AD03-44D73E45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EBA5-9415-4691-A9FD-0E000CD8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1D88-C970-444A-9DAE-9908084C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2BE4-17D9-43E0-8D97-2D082946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8C0B-D5A1-4720-885A-724B0B0F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FDE9-0AC7-4FC0-B7D7-29AFFD36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1D93-09FE-4D97-8F8A-1C304FA1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9832-3148-4F13-97C1-F9854A24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CAD4-1697-4270-B757-FEFC5AB2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47BA-759E-4CE6-A796-A79ABA6F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80DB-6E5A-4786-8B5D-679C78E0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93AA-F847-4E9D-A34A-8A9071FD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2CB-05E1-4B9D-A733-CF754446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466-5A8B-4B0B-8ECC-8D5AB3C8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F1B2-57EC-4EE7-85A8-31C73CAF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800-7E0A-486C-8F14-205B2D3B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35F-A54C-4844-AF66-EEF20836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1A4-CE56-4054-99C6-73AE3F26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B5C-1F78-4CD0-B834-B4894891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C144-665B-47F9-AA24-6F67BAB9A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67E3-8F4B-41F8-BCF4-7A238A80F72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esident Obama’s Cabin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Commer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upervises trade, promotes U.S. business, and touris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cting Secretary of Commerce Rebecca Blan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3352680" y="4114800"/>
            <a:ext cx="19814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Lab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als with working conditions, and wages of U.S. worke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Labor Hilda Sol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5" descr="solis-sec"/>
          <p:cNvPicPr/>
          <p:nvPr/>
        </p:nvPicPr>
        <p:blipFill>
          <a:blip r:embed="rId1"/>
          <a:stretch/>
        </p:blipFill>
        <p:spPr>
          <a:xfrm>
            <a:off x="3352680" y="3733920"/>
            <a:ext cx="11908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Health and Human Serv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orks for the well-being and health of all America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Health and Human Services Kathleen Sebeliu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2" name="Picture 5" descr="sebeliusofficialphoto"/>
          <p:cNvPicPr/>
          <p:nvPr/>
        </p:nvPicPr>
        <p:blipFill>
          <a:blip r:embed="rId1"/>
          <a:stretch/>
        </p:blipFill>
        <p:spPr>
          <a:xfrm>
            <a:off x="2819520" y="4191120"/>
            <a:ext cx="2895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Housing and Urban Develop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als with the special needs and problems of citi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Housing and Urban Development Shaun Donov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5" name="Picture 5" descr="donovan022709"/>
          <p:cNvPicPr/>
          <p:nvPr/>
        </p:nvPicPr>
        <p:blipFill>
          <a:blip r:embed="rId1"/>
          <a:stretch/>
        </p:blipFill>
        <p:spPr>
          <a:xfrm>
            <a:off x="3733920" y="4114800"/>
            <a:ext cx="13716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Transport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ages nation’s highways, railroads, airlines, and sea traffic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Transportation Ray LaH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5" descr="lahood"/>
          <p:cNvPicPr/>
          <p:nvPr/>
        </p:nvPicPr>
        <p:blipFill>
          <a:blip r:embed="rId1"/>
          <a:stretch/>
        </p:blipFill>
        <p:spPr>
          <a:xfrm>
            <a:off x="3352680" y="4267080"/>
            <a:ext cx="17020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Energ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rects the overall energy plan for the na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Energy Steven Chu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1" name="Picture 5" descr="SecretaryChu_tn"/>
          <p:cNvPicPr/>
          <p:nvPr/>
        </p:nvPicPr>
        <p:blipFill>
          <a:blip r:embed="rId1"/>
          <a:stretch/>
        </p:blipFill>
        <p:spPr>
          <a:xfrm>
            <a:off x="3581280" y="3657600"/>
            <a:ext cx="16574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Educ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vides advice and funding for school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Education Arne Dunc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Picture 5" descr="duncan-100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Veterans Affai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rects services for veterans of the armed forc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Veterans Affairs Eric Shinsek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7" name="Picture 5" descr="Shinseki-web"/>
          <p:cNvPicPr/>
          <p:nvPr/>
        </p:nvPicPr>
        <p:blipFill>
          <a:blip r:embed="rId1"/>
          <a:stretch/>
        </p:blipFill>
        <p:spPr>
          <a:xfrm>
            <a:off x="3276720" y="358128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Homeland Securit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versees America’s defenses against terrorist attack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Homeland Security Janet Napolitan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5" descr="janet-napolitano-sm"/>
          <p:cNvPicPr/>
          <p:nvPr/>
        </p:nvPicPr>
        <p:blipFill>
          <a:blip r:embed="rId1"/>
          <a:stretch/>
        </p:blipFill>
        <p:spPr>
          <a:xfrm>
            <a:off x="3505320" y="4038480"/>
            <a:ext cx="1904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Each department is responsible for a certain area of government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head of the department, or Secretary, is a member of the cabinet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abinet members advise the President and run the department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esident Obama, Vice-President Biden, Cabinet Secretaries, and members of the Executive Office of the President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Content Placeholder 3" descr="cabinetRS.jpg"/>
          <p:cNvPicPr/>
          <p:nvPr/>
        </p:nvPicPr>
        <p:blipFill>
          <a:blip r:embed="rId1"/>
          <a:stretch/>
        </p:blipFill>
        <p:spPr>
          <a:xfrm>
            <a:off x="2209680" y="220968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Department of St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department plans and carries out the nation’s foreign polic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State Hillary Clint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Picture 3" descr="Clinton8x10_150_1.jpg"/>
          <p:cNvPicPr/>
          <p:nvPr/>
        </p:nvPicPr>
        <p:blipFill>
          <a:blip r:embed="rId1"/>
          <a:stretch/>
        </p:blipFill>
        <p:spPr>
          <a:xfrm>
            <a:off x="3352680" y="3733920"/>
            <a:ext cx="1428840" cy="188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Department of the Treasu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llects, borrows, spends, and prints money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retary of the Treasury Timothy Geithn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6" descr="photo-geithner"/>
          <p:cNvPicPr/>
          <p:nvPr/>
        </p:nvPicPr>
        <p:blipFill>
          <a:blip r:embed="rId1"/>
          <a:stretch/>
        </p:blipFill>
        <p:spPr>
          <a:xfrm>
            <a:off x="2895480" y="3809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Department of Defen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ages the armed forc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Defense Leon Panett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209680" cy="27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Department of Justi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sponsible for all aspects of federal law enforcement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ttorney General Eric Hol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5" descr="oag2"/>
          <p:cNvPicPr/>
          <p:nvPr/>
        </p:nvPicPr>
        <p:blipFill>
          <a:blip r:embed="rId1"/>
          <a:stretch/>
        </p:blipFill>
        <p:spPr>
          <a:xfrm>
            <a:off x="3352680" y="3657600"/>
            <a:ext cx="1650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the Interi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nages and protects the nation’s public lands and natural resourc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the Interior Ken Salaz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Picture 5" descr="Salazar_Portrait"/>
          <p:cNvPicPr/>
          <p:nvPr/>
        </p:nvPicPr>
        <p:blipFill>
          <a:blip r:embed="rId1"/>
          <a:stretch/>
        </p:blipFill>
        <p:spPr>
          <a:xfrm>
            <a:off x="3352680" y="419112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partment of Agricul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ssists farmers and consumers of farm produc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retary of Agriculture Tom Vilsack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officialportraitweb"/>
          <p:cNvPicPr/>
          <p:nvPr/>
        </p:nvPicPr>
        <p:blipFill>
          <a:blip r:embed="rId1"/>
          <a:stretch/>
        </p:blipFill>
        <p:spPr>
          <a:xfrm>
            <a:off x="3505320" y="3962520"/>
            <a:ext cx="198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6:56:09Z</dcterms:created>
  <dc:creator>shroberts</dc:creator>
  <dc:description/>
  <dc:language>en-US</dc:language>
  <cp:lastModifiedBy>SysAdmin</cp:lastModifiedBy>
  <dcterms:modified xsi:type="dcterms:W3CDTF">2011-09-29T16:38:16Z</dcterms:modified>
  <cp:revision>44</cp:revision>
  <dc:subject/>
  <dc:title>The Executive Departments</dc:title>
</cp:coreProperties>
</file>